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F42C-8CBA-4C3E-B9D0-F7840991E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34628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BB90-BAE3-4E31-AE8D-3834F0A9C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9C00-CE1D-46CA-AC4C-97775BB94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EB9F-3A9F-4105-968E-432967361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B187-5688-44F5-97C1-294A15C932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E7E7-15B7-414C-9DBD-D1D6FB88B6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AF6D-E45E-4BFA-85EA-D2503F4775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CEB9-C1E1-435F-A667-DE16F0BA06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5278-7C87-4293-BFF2-98DC603EE2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94760" y="0"/>
            <a:ext cx="80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FF4A-995F-41A4-ADEB-673BC532C0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D7EF-7511-43E8-8FF3-B9BB1A1BD5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9ACB-B5A1-4C3E-BF14-E471A28A2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FEBBD-79A7-4D4B-9889-C396D607A1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C09C8-404C-4E38-9A1D-FF60EC055C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434628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F47A-39A1-419E-8AD3-1AAACBF835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FA6F-9FC0-4D2C-8A16-6179DCC7EC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8896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8800" y="4346280"/>
            <a:ext cx="25516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E748-1773-4CD0-A93B-3104E251B4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5BBA-0FE8-462C-84A3-220E2D0B8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2F42-62F6-4CC3-99BD-924A08DCA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8F8E-186A-401F-819D-4DE0F029B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4760" y="0"/>
            <a:ext cx="80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7DE7-4DC3-453C-BFE9-C7CE5C2C3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E03D-DD0C-41BF-9C3E-24616CF0F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34628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CC83-AF59-49FE-B719-7CB786853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46280"/>
            <a:ext cx="79250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57B9-4939-4F0A-813B-FE183ACAE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59200" y="6402240"/>
            <a:ext cx="319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1CD9-EB7C-420E-9D98-0231EE03F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5920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21CA-B079-479D-B058-3ACE15D06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0" y="927000"/>
            <a:ext cx="8991720" cy="4495680"/>
            <a:chOff x="0" y="927000"/>
            <a:chExt cx="8991720" cy="4495680"/>
          </a:xfrm>
        </p:grpSpPr>
        <p:sp>
          <p:nvSpPr>
            <p:cNvPr id="79" name="AutoShape 2"/>
            <p:cNvSpPr/>
            <p:nvPr/>
          </p:nvSpPr>
          <p:spPr>
            <a:xfrm>
              <a:off x="685800" y="2070000"/>
              <a:ext cx="7391520" cy="3352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899208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99" y="0"/>
                  </a:lnTo>
                  <a:cubicBezTo>
                    <a:pt x="20616" y="0"/>
                    <a:pt x="21600" y="4817"/>
                    <a:pt x="21600" y="10800"/>
                  </a:cubicBezTo>
                  <a:cubicBezTo>
                    <a:pt x="21600" y="16762"/>
                    <a:pt x="20616" y="21578"/>
                    <a:pt x="19404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0" y="3060720"/>
              <a:ext cx="8305920" cy="1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022400"/>
            <a:ext cx="8077320" cy="241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XML &amp; UB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3390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G 64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"/>
          <p:cNvGrpSpPr/>
          <p:nvPr/>
        </p:nvGrpSpPr>
        <p:grpSpPr>
          <a:xfrm>
            <a:off x="0" y="927000"/>
            <a:ext cx="8991720" cy="4495680"/>
            <a:chOff x="0" y="927000"/>
            <a:chExt cx="8991720" cy="4495680"/>
          </a:xfrm>
        </p:grpSpPr>
        <p:sp>
          <p:nvSpPr>
            <p:cNvPr id="144" name="AutoShape 2"/>
            <p:cNvSpPr/>
            <p:nvPr/>
          </p:nvSpPr>
          <p:spPr>
            <a:xfrm>
              <a:off x="685800" y="2070000"/>
              <a:ext cx="7391520" cy="3352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899208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99" y="0"/>
                  </a:lnTo>
                  <a:cubicBezTo>
                    <a:pt x="20616" y="0"/>
                    <a:pt x="21600" y="4817"/>
                    <a:pt x="21600" y="10800"/>
                  </a:cubicBezTo>
                  <a:cubicBezTo>
                    <a:pt x="21600" y="16762"/>
                    <a:pt x="20616" y="21578"/>
                    <a:pt x="19404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>
              <a:off x="0" y="3060720"/>
              <a:ext cx="8305920" cy="1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022400"/>
            <a:ext cx="8077320" cy="241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B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3390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Business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51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oot Ele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element tag after the pr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loses all other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L defines what the root element nam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Catalogue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Catalogue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57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rent El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ent elements contain or enclose other el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ot (&lt;Catalogue&gt; ) Parent of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D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Nam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ssueDat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roviderParty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Party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t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ostalAddres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ReceiverParty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Party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t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ostalAddres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CatalogueLin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are the Parent elements within this element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63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usable El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ossible UBL uses the same structure for elements in differen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lAddress can be used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it has the sam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treetName&gt;Main St.&lt;/StreetName&gt; &lt;BuildingNumber&gt;56A&lt;/BuildingNumber&gt; &lt;CityName&gt;Newark&lt;/CityName&gt; &lt;PostalZone&gt;19716&lt;/PostalZone&gt; &lt;CountrySubentityCode&gt;DE&lt;/CountrySubentity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ountry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IdentificationCode&gt;USA&lt;/Identification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Country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69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ement Attribu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s are contained within an opening element tag &l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Name=“attribute valu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-pair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iceAmount currencyID="USD"&gt;575.55&lt;/PriceAmount&gt; &lt;BaseQuantity unitCode="UNIT"&gt;1&lt;/BaseQuanti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75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BL document Ru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54040" indent="-5144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has a unique Root El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has a required 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Identify doc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has a required IssueD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when document is cre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onal Issue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has two Party el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r/Suppl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er/Bu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has at least one line el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u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144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der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81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BL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2955960" cy="66294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762120" y="1828800"/>
            <a:ext cx="2832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ea typeface="Arial"/>
              </a:rPr>
              <a:t>Processes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88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spatch Advice (Shipping Notice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</a:rPr>
              <a:t>Sample Despatch Ad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86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tensible Markup Language - XM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-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nguage that can be used to create others (vocabula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Business Language (U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le Business Reporting Language (XB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has sets of xm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ce Document .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Document .x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s allowed structure (data types, element names) of instanc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esheet .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ing instructions for data in the instanc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XML documents must be well-formed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92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XML Rules – A well formed docu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line of an XML document must contain the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prolo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heme of the XML document – the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root 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must enclose all the other elements in the document. There can be only one roo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element must have an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opening t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gt; and a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closing t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must be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properly nes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t is you close the tag that was opened last – think of tags as using a LIFO convention or more properly a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LOF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st Opened First Closed convention (though it doesn’t have quite the same ring to 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can have </a:t>
            </a:r>
            <a:r>
              <a:rPr b="0" lang="en-US" sz="2400" spc="-1" strike="noStrike">
                <a:solidFill>
                  <a:srgbClr val="6666cc"/>
                </a:solidFill>
                <a:latin typeface="Arial Bold"/>
                <a:ea typeface="Arial Bold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53352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 values are enclosed with “ ” and can have no spac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98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log and Com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XML document starts with a pr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ets the XML enabled processor know that this is an XML document to be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?xml version="1.0" encoding="UTF-8"?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!-- A simplified UBL Catalogue document: SkipWhite.com, April 2008 --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04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XML Concepts 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rst line of any XML based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UTF-8"?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ag set (the tag name, its attribute and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StudentName campus=“main”&gt;John Smith&lt;/Student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 Hierar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(or encloses) all the other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other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represent information about one Instance of an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97000" indent="-228600">
              <a:lnSpc>
                <a:spcPct val="70000"/>
              </a:lnSpc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a custome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losed by Paren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attributes describing the Paren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97000" indent="-228600">
              <a:lnSpc>
                <a:spcPct val="70000"/>
              </a:lnSpc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customer name, date of order, items order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70000"/>
              </a:lnSpc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70000"/>
              </a:lnSpc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modify or clarify the data in an el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levation&gt;130&lt;/elev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7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levation measureUnit = “meter”&gt;130&lt;/elev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10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Element Hierarchy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ourGui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i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ityName&gt;Belmopan&lt;/cit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dminUnit&gt;Cayo&lt;/adminUni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ountry&gt;Belize&lt;/count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opulation&gt;11100&lt;/popul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rea&gt;5&lt;/are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levation&gt;130&lt;/elev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ongitude&gt;88.44&lt;/longitu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atitude&gt;17.27&lt;/latitu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escription&gt;Belmopan is the capital of Belize&lt;/description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istory&gt;Belmopan was established following the devastation of the for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tal ,Belize City, by Hurricane Hattie in 1965. High ground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pace influenced the choice and ground-breaking began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66.  By 1970 most government offices and operations had already mov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the new lo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isto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ci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ourGuid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1828800" y="1447920"/>
            <a:ext cx="2971800" cy="533160"/>
            <a:chOff x="1828800" y="1447920"/>
            <a:chExt cx="2971800" cy="533160"/>
          </a:xfrm>
        </p:grpSpPr>
        <p:sp>
          <p:nvSpPr>
            <p:cNvPr id="116" name="AutoShape 8"/>
            <p:cNvSpPr/>
            <p:nvPr/>
          </p:nvSpPr>
          <p:spPr>
            <a:xfrm>
              <a:off x="1828800" y="1447920"/>
              <a:ext cx="2971800" cy="533160"/>
            </a:xfrm>
            <a:prstGeom prst="leftArrow">
              <a:avLst>
                <a:gd name="adj1" fmla="val 50000"/>
                <a:gd name="adj2" fmla="val 13934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2590200" y="1492920"/>
              <a:ext cx="18190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0000" tIns="38160" bIns="38160" anchor="ctr">
              <a:spAutoFit/>
            </a:bodyPr>
            <a:p>
              <a:pPr marL="3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ot E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0"/>
          <p:cNvGrpSpPr/>
          <p:nvPr/>
        </p:nvGrpSpPr>
        <p:grpSpPr>
          <a:xfrm>
            <a:off x="1828800" y="1752480"/>
            <a:ext cx="2971800" cy="533520"/>
            <a:chOff x="1828800" y="1752480"/>
            <a:chExt cx="2971800" cy="533520"/>
          </a:xfrm>
        </p:grpSpPr>
        <p:sp>
          <p:nvSpPr>
            <p:cNvPr id="119" name="AutoShape 11"/>
            <p:cNvSpPr/>
            <p:nvPr/>
          </p:nvSpPr>
          <p:spPr>
            <a:xfrm>
              <a:off x="1828800" y="1752480"/>
              <a:ext cx="2971800" cy="533520"/>
            </a:xfrm>
            <a:prstGeom prst="leftArrow">
              <a:avLst>
                <a:gd name="adj1" fmla="val 50000"/>
                <a:gd name="adj2" fmla="val 1392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2496600" y="1797840"/>
              <a:ext cx="20066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0000" tIns="38160" bIns="38160" anchor="ctr">
              <a:spAutoFit/>
            </a:bodyPr>
            <a:p>
              <a:pPr marL="3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 E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13"/>
          <p:cNvSpPr/>
          <p:nvPr/>
        </p:nvSpPr>
        <p:spPr>
          <a:xfrm>
            <a:off x="1371600" y="2209680"/>
            <a:ext cx="228600" cy="3124440"/>
          </a:xfrm>
          <a:custGeom>
            <a:avLst/>
            <a:gdLst>
              <a:gd name="textAreaLeft" fmla="*/ 0 w 228600"/>
              <a:gd name="textAreaRight" fmla="*/ 228960 w 228600"/>
              <a:gd name="textAreaTop" fmla="*/ 0 h 3124440"/>
              <a:gd name="textAreaBottom" fmla="*/ 312480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5635" y="0"/>
                  <a:pt x="10800" y="806"/>
                  <a:pt x="10800" y="1800"/>
                </a:cubicBezTo>
                <a:lnTo>
                  <a:pt x="10800" y="9000"/>
                </a:lnTo>
                <a:cubicBezTo>
                  <a:pt x="10800" y="9994"/>
                  <a:pt x="5965" y="10800"/>
                  <a:pt x="0" y="10800"/>
                </a:cubicBezTo>
                <a:cubicBezTo>
                  <a:pt x="5965" y="10800"/>
                  <a:pt x="10800" y="11606"/>
                  <a:pt x="10800" y="12600"/>
                </a:cubicBezTo>
                <a:lnTo>
                  <a:pt x="10800" y="19800"/>
                </a:lnTo>
                <a:cubicBezTo>
                  <a:pt x="10800" y="20794"/>
                  <a:pt x="15635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52280" y="2971800"/>
            <a:ext cx="1460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24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ts look at more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witt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</a:rPr>
              <a:t>https://twitter.com/statuses/friends/shornik.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</a:rPr>
              <a:t>https://twitter.com/statuses/public_timeline.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30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iver Service to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 Service to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build an XML Instance Docum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669999"/>
              </a:buClr>
              <a:buSzPct val="64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ata do we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your XML (is it well-forme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in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99ccff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in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45956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972A-E005-41F3-854B-F3DE4028B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37" name="AutoShape 2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2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54" y="0"/>
                  </a:lnTo>
                  <a:cubicBezTo>
                    <a:pt x="20909" y="0"/>
                    <a:pt x="21600" y="4817"/>
                    <a:pt x="21600" y="10800"/>
                  </a:cubicBezTo>
                  <a:cubicBezTo>
                    <a:pt x="21600" y="16762"/>
                    <a:pt x="20909" y="21578"/>
                    <a:pt x="20057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"/>
            <p:cNvSpPr/>
            <p:nvPr/>
          </p:nvSpPr>
          <p:spPr>
            <a:xfrm>
              <a:off x="0" y="1218960"/>
              <a:ext cx="8077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iver Service to Customer Narra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ttp://acg6415.wikispaces.com/Deliver+Service+to+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745956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EB18-796F-4CF5-AA0E-906ECE2FF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Steven Hornik</cp:lastModifiedBy>
  <dcterms:modified xsi:type="dcterms:W3CDTF">2011-06-16T20:44:46Z</dcterms:modified>
  <cp:revision>6</cp:revision>
  <dc:subject/>
  <dc:title>Slide 1</dc:title>
</cp:coreProperties>
</file>